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159F-C0BF-46E8-BCE9-8CFA58C3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1127-B283-4E01-BF84-EB8EE356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F1F7-47D5-4754-955C-8E0FF17B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DA75-CEA3-45CD-8285-4E6552F5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72A4-F5E4-4B17-85EB-5F801485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64D8-6E3E-4DAB-BEC8-ED0D7C25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D1F8-D11B-403E-BA03-413972C8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39E5-D009-48A9-B334-4E227099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24E6-A076-4158-B6FA-F4646E23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873B-3D25-4B63-9D70-B85A55CA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54F2-2941-4BEA-85D5-42A32437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F348-380E-43E9-AB9D-8A0F8F86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AA2E-E4D9-40FE-8588-C8447D8E0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1752480" y="15238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ere I am to Wor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0" y="152388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Light of the world You stepped out into darkn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Opened my eyes let me se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Beauty that made this heart adore Yo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ope of a life spent with Yo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worshi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bow dow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say that You’re my Go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Your altogether Lovel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together worth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together wonderful to m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0" y="152388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King of all days, O so highly exalt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Glorious in heaven abov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umbly You came to the earth You creat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l for loves sake became poo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worshi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bow dow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say that You’re my Go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Your altogether Lovel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together worth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together wonderful to m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0" y="1523880"/>
            <a:ext cx="9144000" cy="73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nd I’ll never know how much it co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To see my sin upon that cro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nd I’ll never know how much it co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To see my sin upon that cro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nd I’ll never know how much it co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To see my sin upon that cro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nd I’ll never know how much it co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To see my sin upon that cro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worshi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bow dow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say that You’re my Go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Your altogether Lovel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together worth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together wonderful to m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worshi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bow dow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say that You’re my Go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Your altogether Lovel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together worth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together wonderful to m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5T23:26:42Z</dcterms:created>
  <dc:creator>Jim Graham</dc:creator>
  <dc:description/>
  <dc:language>en-US</dc:language>
  <cp:lastModifiedBy>Jim Graham</cp:lastModifiedBy>
  <dcterms:modified xsi:type="dcterms:W3CDTF">2007-08-25T23:30:13Z</dcterms:modified>
  <cp:revision>1</cp:revision>
  <dc:subject/>
  <dc:title>Slide 1</dc:title>
</cp:coreProperties>
</file>